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221-81B2-41A1-ACBC-63CD1B52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D0F-066E-4267-B6BC-28BFE688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CD5-83A1-48E2-B708-026B9FBC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2B12-EC0E-45B3-AE49-A0D70BE7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0721-2D5B-4463-A0EC-3A785A48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0E09-1557-487C-A09C-2F9B4FA5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DE8F-295C-4460-A433-39AD21BA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0C4D-5DCE-40B2-AC8A-95684A32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DC35-FC01-40C3-89D9-A3B3ADA2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553A-96BE-448C-89A2-749846B6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531F-4865-403D-B666-D50CBEF5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632-FEDA-43FC-9DF1-F1BAB9EB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AD0F-158C-4653-87F5-BA812A79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66F3-05FF-4C9A-9476-2D2AE31B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1FE6-73BD-401A-9A42-FD087873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ADDD-CC4F-4C91-B215-B633EC51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E3CD-FF01-4B4C-935D-50FE2E83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15F-CC3D-47DC-8C44-14306147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012-3109-4E98-9E37-ED435819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563-C6DD-4A1C-89AE-F6D50F77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D18-2DF4-41CA-9C5A-4AEE8F64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4C6-9FFC-49BC-AD09-A3841154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205-409E-4E3A-8CEE-0055273A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0DE-750E-4632-8AE4-0D313353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334A-C36B-4CC6-8E58-AD2E0F401099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157C-21E3-45C4-AC2C-15A08FF50CB3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odel%20Scenario.doc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Rubric.doc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Effective Communication Strategies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y is it imperative that I present myself in a positive and helpful manner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 I communicate with those who need my assistanc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Have you ever felt uncomfortable when you asked someone for help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The way you speak to someone reflects directly on who you are and how you make them fe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As an iSqauder your job is to help those in need to feel comfortable using technology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Today we are going to talk about some appropriate ways to communicate with oth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1:  Read the </a:t>
            </a:r>
            <a:r>
              <a:rPr b="0" lang="en-US" sz="28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Model Scenari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2:  Chart positives and negatives about the scenario.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0" y="2362320"/>
          <a:ext cx="4114800" cy="3886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572000" y="19051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Positive</a:t>
            </a: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     Negativ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n this session you will read scenarios that might occur as a Mouse Squad Technician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You should use the positive communication skills discussed to guide you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Each scenario is different and you may not know the answer but how you handle the situation is most importan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Before you break into groups to practice lets list positive communication skills  we should keep in mind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In Groups of three assign the following roles: 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Distressed User, Laptop Technician, Observ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Chose possible scenario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Use positive communication skills discussed to “act out” scenari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Observer will rate how Laptop Technician handled situation with </a:t>
            </a:r>
            <a:r>
              <a:rPr b="0" lang="en-US" sz="28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rubric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Rotate roles with each scenario until all have been “acted out”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3-12T22:39:27Z</dcterms:modified>
  <cp:revision>7</cp:revision>
  <dc:subject/>
  <dc:title>Workshop Title</dc:title>
</cp:coreProperties>
</file>